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png" ContentType="image/png"/>
  <Override PartName="/ppt/media/image19.png" ContentType="image/png"/>
  <Override PartName="/ppt/media/image16.png" ContentType="image/png"/>
  <Override PartName="/ppt/media/image15.png" ContentType="image/png"/>
  <Override PartName="/ppt/media/arrow.wav" ContentType="audio/x-wav"/>
  <Override PartName="/ppt/media/bomb.wav" ContentType="audio/x-wav"/>
  <Override PartName="/ppt/media/image20.png" ContentType="image/png"/>
  <Override PartName="/ppt/media/image2.png" ContentType="image/png"/>
  <Override PartName="/ppt/media/suction.wav" ContentType="audio/x-wav"/>
  <Override PartName="/ppt/media/image25.png" ContentType="image/png"/>
  <Override PartName="/ppt/media/image4.png" ContentType="image/png"/>
  <Override PartName="/ppt/media/image27.png" ContentType="image/png"/>
  <Override PartName="/ppt/media/image23.png" ContentType="image/png"/>
  <Override PartName="/ppt/media/image7.png" ContentType="image/png"/>
  <Override PartName="/ppt/media/click.wav" ContentType="audio/x-wav"/>
  <Override PartName="/ppt/media/image24.png" ContentType="image/png"/>
  <Override PartName="/ppt/media/image8.png" ContentType="image/png"/>
  <Override PartName="/ppt/media/image26.png" ContentType="image/png"/>
  <Override PartName="/ppt/media/image3.png" ContentType="image/png"/>
  <Override PartName="/ppt/media/image28.png" ContentType="image/png"/>
  <Override PartName="/ppt/media/image5.png" ContentType="image/png"/>
  <Override PartName="/ppt/media/image29.png" ContentType="image/png"/>
  <Override PartName="/ppt/media/image6.png" ContentType="image/png"/>
  <Override PartName="/ppt/media/image17.png" ContentType="image/png"/>
  <Override PartName="/ppt/media/image18.png" ContentType="image/png"/>
  <Override PartName="/ppt/media/type.wav" ContentType="audio/x-wav"/>
  <Override PartName="/ppt/media/camera.wav" ContentType="audio/x-wav"/>
  <Override PartName="/ppt/media/image22.png" ContentType="image/png"/>
  <Override PartName="/ppt/media/image9.png" ContentType="image/png"/>
  <Override PartName="/ppt/media/image1.jpeg" ContentType="image/jpeg"/>
  <Override PartName="/ppt/media/image10.png" ContentType="image/png"/>
  <Override PartName="/ppt/media/image11.png" ContentType="image/png"/>
  <Override PartName="/ppt/media/image12.png" ContentType="image/png"/>
  <Override PartName="/ppt/media/image13.png" ContentType="image/png"/>
  <Override PartName="/ppt/media/image14.png" ContentType="image/png"/>
  <Override PartName="/ppt/media/image30.png" ContentType="image/png"/>
  <Override PartName="/ppt/media/voltag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DBCA-6372-4670-8F8C-4A8587E89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A441-0727-476F-9B19-3CD41A21C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5680-3B2F-4467-B037-B3B052EE8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0104-7A5E-4C5E-B7CC-17B61C64B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1B294-193B-4C93-82FE-42DA3775D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A0FA7-6AC5-48F4-B362-BCB674B6D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B0DBA-6A23-4AE1-8C02-850924FD8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F0759-C31D-4A39-B48E-155FB2E48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CE69A-DA87-4D55-9CE4-B83D95481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F513E-0A45-4B54-A3AE-5FE25045F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D9724-67E1-4C8B-B945-73023BDC6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47F3-B596-4DD3-A666-8334C2A91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904EF-E40C-4D08-8A01-3BD5D1F1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9686A-D775-4EF9-BAA0-E0DF2ABA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51DCD-CA48-4C90-90E5-0DECD367D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8ECE0-F4C1-4DD4-B282-D815A1A67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CEE41-53B0-4351-9FEF-9EC5CA99C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43BB-3CA0-4D68-AB61-330E9B614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F612-6814-4E2C-8D35-867F0EF31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77F3-16F3-40C5-BCBE-C62B47785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2295-137B-4C90-A5A5-FBF280281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2499-B2BC-47B3-BA93-77A1D88B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B3D4-D24E-4F91-BCA1-47402E31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48EB-EC3D-4772-B87E-506612E8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B3350-4EFF-49F3-BB73-57B38A56CE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9602D-66E7-4AC0-AFFD-DE4D4692D9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audio" Target="../media/camera.wav"/><Relationship Id="rId7" Type="http://schemas.openxmlformats.org/officeDocument/2006/relationships/audio" Target="../media/suction.wav"/><Relationship Id="rId8" Type="http://schemas.openxmlformats.org/officeDocument/2006/relationships/audio" Target="../media/bomb.wav"/><Relationship Id="rId9" Type="http://schemas.openxmlformats.org/officeDocument/2006/relationships/audio" Target="../media/bomb.wav"/><Relationship Id="rId10" Type="http://schemas.openxmlformats.org/officeDocument/2006/relationships/audio" Target="../media/suction.wav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audio" Target="../media/camera.wav"/><Relationship Id="rId5" Type="http://schemas.openxmlformats.org/officeDocument/2006/relationships/audio" Target="../media/bomb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suction.wav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audio" Target="../media/camera.wav"/><Relationship Id="rId8" Type="http://schemas.openxmlformats.org/officeDocument/2006/relationships/audio" Target="../media/bomb.wav"/><Relationship Id="rId9" Type="http://schemas.openxmlformats.org/officeDocument/2006/relationships/audio" Target="../media/click.wav"/><Relationship Id="rId10" Type="http://schemas.openxmlformats.org/officeDocument/2006/relationships/audio" Target="../media/type.wav"/><Relationship Id="rId11" Type="http://schemas.openxmlformats.org/officeDocument/2006/relationships/audio" Target="../media/click.wav"/><Relationship Id="rId12" Type="http://schemas.openxmlformats.org/officeDocument/2006/relationships/audio" Target="../media/type.wav"/><Relationship Id="rId13" Type="http://schemas.openxmlformats.org/officeDocument/2006/relationships/audio" Target="../media/click.wav"/><Relationship Id="rId14" Type="http://schemas.openxmlformats.org/officeDocument/2006/relationships/audio" Target="../media/type.wav"/><Relationship Id="rId15" Type="http://schemas.openxmlformats.org/officeDocument/2006/relationships/audio" Target="../media/click.wav"/><Relationship Id="rId16" Type="http://schemas.openxmlformats.org/officeDocument/2006/relationships/audio" Target="../media/type.wav"/><Relationship Id="rId17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audio" Target="../media/camera.wav"/><Relationship Id="rId6" Type="http://schemas.openxmlformats.org/officeDocument/2006/relationships/audio" Target="../media/bomb.wav"/><Relationship Id="rId7" Type="http://schemas.openxmlformats.org/officeDocument/2006/relationships/audio" Target="../media/bomb.wav"/><Relationship Id="rId8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audio" Target="../media/camera.wav"/><Relationship Id="rId6" Type="http://schemas.openxmlformats.org/officeDocument/2006/relationships/audio" Target="../media/voltage.wav"/><Relationship Id="rId7" Type="http://schemas.openxmlformats.org/officeDocument/2006/relationships/audio" Target="../media/arrow.wav"/><Relationship Id="rId8" Type="http://schemas.openxmlformats.org/officeDocument/2006/relationships/audio" Target="../media/arrow.wav"/><Relationship Id="rId9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audio" Target="../media/camera.wav"/><Relationship Id="rId6" Type="http://schemas.openxmlformats.org/officeDocument/2006/relationships/audio" Target="../media/voltage.wav"/><Relationship Id="rId7" Type="http://schemas.openxmlformats.org/officeDocument/2006/relationships/audio" Target="../media/arrow.wav"/><Relationship Id="rId8" Type="http://schemas.openxmlformats.org/officeDocument/2006/relationships/audio" Target="../media/arrow.wav"/><Relationship Id="rId9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audio" Target="../media/camera.wav"/><Relationship Id="rId5" Type="http://schemas.openxmlformats.org/officeDocument/2006/relationships/audio" Target="../media/bomb.wav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Newton’s First Law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24000" y="3886200"/>
            <a:ext cx="849600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object at rest will stay at rest, and an object in motion wil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y in motion in a constant speed and direction, unles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ed upon by an outside for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867280" y="623736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kaisha St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Akaisha Station – Guest Quarters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2841480" y="1676520"/>
            <a:ext cx="3461040" cy="44226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– Guest Are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2727360" y="1676520"/>
            <a:ext cx="3687840" cy="44226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camera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– Gravitic Pad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2700360" y="1773360"/>
            <a:ext cx="4194000" cy="42195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2700360" y="3860640"/>
            <a:ext cx="4194000" cy="19479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9325080" y="2133720"/>
            <a:ext cx="2952720" cy="1936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9252000" y="3357720"/>
            <a:ext cx="2952720" cy="9810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6" name="camera.wav"/>
      </p:stSnd>
    </p:sndAc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suction.wav"/>
                                        </p:tgtEl>
                                      </p:cMediaNode>
                                    </p:audio>
                                    <p:animMotion origin="layout" path="M 0 -9.25283E-007 L -0.56319 0.00578 E">
                                      <p:cBhvr>
                                        <p:cTn id="219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omb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223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1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9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suction.wav"/>
                                        </p:tgtEl>
                                      </p:cMediaNode>
                                    </p:audio>
                                    <p:animMotion origin="layout" path="M -3.88889E-006 -1.72103E-006 L -0.53941 0.00185 E">
                                      <p:cBhvr>
                                        <p:cTn id="243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-- Dock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1042920" y="1676520"/>
            <a:ext cx="7056360" cy="44226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camera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87280" y="1773360"/>
            <a:ext cx="115272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– Magellan 1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1189080" y="1676520"/>
            <a:ext cx="6764400" cy="44226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camera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– Magellan 2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1052640" y="1676520"/>
            <a:ext cx="7037280" cy="44226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camera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– Magellan 3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1720800" y="1676520"/>
            <a:ext cx="5700600" cy="44226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771640" y="6165720"/>
            <a:ext cx="15130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-108000" y="1268280"/>
            <a:ext cx="5040360" cy="5329440"/>
            <a:chOff x="-108000" y="1268280"/>
            <a:chExt cx="5040360" cy="5329440"/>
          </a:xfrm>
        </p:grpSpPr>
        <p:sp>
          <p:nvSpPr>
            <p:cNvPr id="87" name=""/>
            <p:cNvSpPr/>
            <p:nvPr/>
          </p:nvSpPr>
          <p:spPr>
            <a:xfrm>
              <a:off x="179280" y="1700280"/>
              <a:ext cx="4392720" cy="4392720"/>
            </a:xfrm>
            <a:prstGeom prst="ellipse">
              <a:avLst/>
            </a:prstGeom>
            <a:noFill/>
            <a:ln w="57240">
              <a:solidFill>
                <a:srgbClr val="b7e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971640" y="2492280"/>
              <a:ext cx="2881080" cy="2881440"/>
            </a:xfrm>
            <a:prstGeom prst="ellipse">
              <a:avLst/>
            </a:prstGeom>
            <a:noFill/>
            <a:ln w="57240">
              <a:solidFill>
                <a:srgbClr val="b7e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2411280" y="5661000"/>
              <a:ext cx="0" cy="936720"/>
            </a:xfrm>
            <a:prstGeom prst="line">
              <a:avLst/>
            </a:prstGeom>
            <a:ln w="57240">
              <a:solidFill>
                <a:srgbClr val="b7e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2411280" y="1268280"/>
              <a:ext cx="0" cy="1656000"/>
            </a:xfrm>
            <a:prstGeom prst="line">
              <a:avLst/>
            </a:prstGeom>
            <a:ln w="57240">
              <a:solidFill>
                <a:srgbClr val="b7e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4211640" y="3860640"/>
              <a:ext cx="720720" cy="0"/>
            </a:xfrm>
            <a:prstGeom prst="line">
              <a:avLst/>
            </a:prstGeom>
            <a:ln w="57240">
              <a:solidFill>
                <a:srgbClr val="b7e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-108000" y="3860640"/>
              <a:ext cx="720720" cy="0"/>
            </a:xfrm>
            <a:prstGeom prst="line">
              <a:avLst/>
            </a:prstGeom>
            <a:ln w="57240">
              <a:solidFill>
                <a:srgbClr val="b7e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2050920" y="3860640"/>
              <a:ext cx="720720" cy="0"/>
            </a:xfrm>
            <a:prstGeom prst="line">
              <a:avLst/>
            </a:prstGeom>
            <a:ln w="57240">
              <a:solidFill>
                <a:srgbClr val="b7e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2411280" y="3500280"/>
              <a:ext cx="0" cy="720720"/>
            </a:xfrm>
            <a:prstGeom prst="line">
              <a:avLst/>
            </a:prstGeom>
            <a:ln w="57240">
              <a:solidFill>
                <a:srgbClr val="b7e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826920" y="1700280"/>
            <a:ext cx="3154680" cy="442260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2987640" y="4076640"/>
            <a:ext cx="2233800" cy="441360"/>
            <a:chOff x="2987640" y="4076640"/>
            <a:chExt cx="2233800" cy="441360"/>
          </a:xfrm>
        </p:grpSpPr>
        <p:sp>
          <p:nvSpPr>
            <p:cNvPr id="98" name=""/>
            <p:cNvSpPr/>
            <p:nvPr/>
          </p:nvSpPr>
          <p:spPr>
            <a:xfrm>
              <a:off x="3492360" y="4149720"/>
              <a:ext cx="172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uest modul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 flipV="1">
              <a:off x="2987640" y="4076640"/>
              <a:ext cx="504720" cy="216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2771640" y="2276640"/>
            <a:ext cx="2160720" cy="368280"/>
            <a:chOff x="2771640" y="2276640"/>
            <a:chExt cx="2160720" cy="368280"/>
          </a:xfrm>
        </p:grpSpPr>
        <p:sp>
          <p:nvSpPr>
            <p:cNvPr id="101" name=""/>
            <p:cNvSpPr/>
            <p:nvPr/>
          </p:nvSpPr>
          <p:spPr>
            <a:xfrm>
              <a:off x="3276720" y="2276640"/>
              <a:ext cx="165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ff modul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2771640" y="2492280"/>
              <a:ext cx="503280" cy="73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2771280" y="1773360"/>
            <a:ext cx="2305440" cy="431640"/>
            <a:chOff x="2771280" y="1773360"/>
            <a:chExt cx="2305440" cy="431640"/>
          </a:xfrm>
        </p:grpSpPr>
        <p:sp>
          <p:nvSpPr>
            <p:cNvPr id="104" name=""/>
            <p:cNvSpPr/>
            <p:nvPr/>
          </p:nvSpPr>
          <p:spPr>
            <a:xfrm>
              <a:off x="3132000" y="1773360"/>
              <a:ext cx="19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rol modul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2771280" y="1989000"/>
              <a:ext cx="360360" cy="216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555640" y="1341360"/>
            <a:ext cx="1511640" cy="432000"/>
            <a:chOff x="2555640" y="1341360"/>
            <a:chExt cx="1511640" cy="432000"/>
          </a:xfrm>
        </p:grpSpPr>
        <p:sp>
          <p:nvSpPr>
            <p:cNvPr id="107" name=""/>
            <p:cNvSpPr/>
            <p:nvPr/>
          </p:nvSpPr>
          <p:spPr>
            <a:xfrm>
              <a:off x="2700360" y="1341360"/>
              <a:ext cx="13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BD Arra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2555640" y="1557360"/>
              <a:ext cx="142920" cy="216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1116000" y="1773360"/>
            <a:ext cx="1224000" cy="851400"/>
            <a:chOff x="1116000" y="1773360"/>
            <a:chExt cx="1224000" cy="851400"/>
          </a:xfrm>
        </p:grpSpPr>
        <p:sp>
          <p:nvSpPr>
            <p:cNvPr id="110" name=""/>
            <p:cNvSpPr/>
            <p:nvPr/>
          </p:nvSpPr>
          <p:spPr>
            <a:xfrm>
              <a:off x="1116000" y="1773360"/>
              <a:ext cx="938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nsor wel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31760" y="2412720"/>
              <a:ext cx="408240" cy="212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3492360" y="2708280"/>
            <a:ext cx="1584000" cy="580680"/>
            <a:chOff x="3492360" y="2708280"/>
            <a:chExt cx="1584000" cy="580680"/>
          </a:xfrm>
        </p:grpSpPr>
        <p:grpSp>
          <p:nvGrpSpPr>
            <p:cNvPr id="113" name=""/>
            <p:cNvGrpSpPr/>
            <p:nvPr/>
          </p:nvGrpSpPr>
          <p:grpSpPr>
            <a:xfrm>
              <a:off x="3492360" y="2708280"/>
              <a:ext cx="1584000" cy="580680"/>
              <a:chOff x="3492360" y="2708280"/>
              <a:chExt cx="1584000" cy="580680"/>
            </a:xfrm>
          </p:grpSpPr>
          <p:sp>
            <p:nvSpPr>
              <p:cNvPr id="114" name=""/>
              <p:cNvSpPr/>
              <p:nvPr/>
            </p:nvSpPr>
            <p:spPr>
              <a:xfrm>
                <a:off x="3889080" y="2708280"/>
                <a:ext cx="11872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Drydock module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>
                <a:off x="3492360" y="3079800"/>
                <a:ext cx="3960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 flipH="1">
              <a:off x="3492360" y="3080160"/>
              <a:ext cx="4449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5435640" y="1268280"/>
            <a:ext cx="3708360" cy="5331240"/>
          </a:xfrm>
          <a:prstGeom prst="rect">
            <a:avLst/>
          </a:prstGeom>
          <a:solidFill>
            <a:srgbClr val="ffffff"/>
          </a:solidFill>
          <a:ln w="15840">
            <a:solidFill>
              <a:srgbClr val="b7e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Tonnage : 500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Main computer : Mk 5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Armour type : 2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EW rating : 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Shield rating : 7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TBD range : 30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Weaponry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a4"/>
                </a:solidFill>
                <a:latin typeface="Arial"/>
              </a:rPr>
              <a:t>Laser cannons: 6, Mk 2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a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a4"/>
                </a:solidFill>
                <a:latin typeface="Arial"/>
              </a:rPr>
              <a:t>Ion cannons: 2, Mk 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a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a4"/>
                </a:solidFill>
                <a:latin typeface="Arial"/>
              </a:rPr>
              <a:t>Plasma gun: 1, Mk 5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a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a4"/>
                </a:solidFill>
                <a:latin typeface="Arial"/>
              </a:rPr>
              <a:t>Matter/Antimatter torpedoes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a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a4"/>
                </a:solidFill>
                <a:latin typeface="Arial"/>
              </a:rPr>
              <a:t>3 tubes, 10 each, Mk 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Reactor : Matter/Antimat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Auxiliary : Fus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Max sublight Accel : 5 km/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Total crew : 39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Guest capacity : 42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Docking berths 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Pressurised/Internal : 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Gravitic pads : 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External access tubes : 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2916360" y="6308640"/>
            <a:ext cx="1218960" cy="21924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3924000" y="3284640"/>
            <a:ext cx="1440000" cy="824040"/>
            <a:chOff x="3924000" y="3284640"/>
            <a:chExt cx="1440000" cy="824040"/>
          </a:xfrm>
        </p:grpSpPr>
        <p:sp>
          <p:nvSpPr>
            <p:cNvPr id="120" name=""/>
            <p:cNvSpPr/>
            <p:nvPr/>
          </p:nvSpPr>
          <p:spPr>
            <a:xfrm>
              <a:off x="4229280" y="3284640"/>
              <a:ext cx="1134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ravitic landing pad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3924000" y="3860640"/>
              <a:ext cx="3049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684360" y="4292640"/>
            <a:ext cx="1296720" cy="946440"/>
            <a:chOff x="684360" y="4292640"/>
            <a:chExt cx="1296720" cy="946440"/>
          </a:xfrm>
        </p:grpSpPr>
        <p:sp>
          <p:nvSpPr>
            <p:cNvPr id="123" name=""/>
            <p:cNvSpPr/>
            <p:nvPr/>
          </p:nvSpPr>
          <p:spPr>
            <a:xfrm>
              <a:off x="684360" y="4292640"/>
              <a:ext cx="12967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Hydroponics/ Deuterium/ Fluids storag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497600" y="4627800"/>
              <a:ext cx="307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  <p:sndAc>
      <p:stSnd>
        <p:snd r:embed="rId4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indefinite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5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50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-- Sec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826920" y="1700280"/>
            <a:ext cx="3144960" cy="4410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1403280" y="1413000"/>
            <a:ext cx="2044800" cy="20001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1332000" y="1773360"/>
            <a:ext cx="2340000" cy="20984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1692360" y="2852640"/>
            <a:ext cx="1382760" cy="12430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6"/>
          <a:stretch/>
        </p:blipFill>
        <p:spPr>
          <a:xfrm>
            <a:off x="2050920" y="3789360"/>
            <a:ext cx="803520" cy="770040"/>
          </a:xfrm>
          <a:prstGeom prst="rect">
            <a:avLst/>
          </a:prstGeom>
          <a:ln w="0">
            <a:noFill/>
          </a:ln>
        </p:spPr>
      </p:pic>
      <p:grpSp>
        <p:nvGrpSpPr>
          <p:cNvPr id="131" name=""/>
          <p:cNvGrpSpPr/>
          <p:nvPr/>
        </p:nvGrpSpPr>
        <p:grpSpPr>
          <a:xfrm>
            <a:off x="6300720" y="1916280"/>
            <a:ext cx="2304720" cy="337320"/>
            <a:chOff x="6300720" y="1916280"/>
            <a:chExt cx="2304720" cy="337320"/>
          </a:xfrm>
        </p:grpSpPr>
        <p:sp>
          <p:nvSpPr>
            <p:cNvPr id="132" name=""/>
            <p:cNvSpPr/>
            <p:nvPr/>
          </p:nvSpPr>
          <p:spPr>
            <a:xfrm>
              <a:off x="6876720" y="1916280"/>
              <a:ext cx="172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Drydock modul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6300720" y="2133360"/>
              <a:ext cx="576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4462560" y="3284640"/>
            <a:ext cx="2701800" cy="337320"/>
            <a:chOff x="4462560" y="3284640"/>
            <a:chExt cx="2701800" cy="337320"/>
          </a:xfrm>
        </p:grpSpPr>
        <p:sp>
          <p:nvSpPr>
            <p:cNvPr id="135" name=""/>
            <p:cNvSpPr/>
            <p:nvPr/>
          </p:nvSpPr>
          <p:spPr>
            <a:xfrm>
              <a:off x="4462560" y="3284640"/>
              <a:ext cx="226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ravitic landing pad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6551640" y="3429000"/>
              <a:ext cx="612720" cy="71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6372000" y="5589360"/>
            <a:ext cx="2233440" cy="441360"/>
            <a:chOff x="6372000" y="5589360"/>
            <a:chExt cx="2233440" cy="441360"/>
          </a:xfrm>
        </p:grpSpPr>
        <p:sp>
          <p:nvSpPr>
            <p:cNvPr id="138" name=""/>
            <p:cNvSpPr/>
            <p:nvPr/>
          </p:nvSpPr>
          <p:spPr>
            <a:xfrm>
              <a:off x="6876720" y="5662440"/>
              <a:ext cx="172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uest modul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flipV="1">
              <a:off x="6372000" y="5589360"/>
              <a:ext cx="504360" cy="215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2556000" y="5950080"/>
            <a:ext cx="2124000" cy="733320"/>
            <a:chOff x="2556000" y="5950080"/>
            <a:chExt cx="2124000" cy="733320"/>
          </a:xfrm>
        </p:grpSpPr>
        <p:sp>
          <p:nvSpPr>
            <p:cNvPr id="141" name=""/>
            <p:cNvSpPr/>
            <p:nvPr/>
          </p:nvSpPr>
          <p:spPr>
            <a:xfrm>
              <a:off x="2556000" y="5950080"/>
              <a:ext cx="2124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Hydroponics/ Deuterium/ Fluids storag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88000" y="6165720"/>
              <a:ext cx="503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  <p:sndAc>
      <p:stSnd>
        <p:snd r:embed="rId7" name="camera.wav"/>
      </p:stSnd>
    </p:sndAc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2.32015E-006 L 0.30555 -0.00926 E">
                                      <p:cBhvr>
                                        <p:cTn id="66" dur="5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500"/>
                            </p:stCondLst>
                            <p:childTnLst>
                              <p:par>
                                <p:cTn id="7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1.54291E-006 L 0.55712 0.07795 E">
                                      <p:cBhvr>
                                        <p:cTn id="80" dur="5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000"/>
                            </p:stCondLst>
                            <p:childTnLst>
                              <p:par>
                                <p:cTn id="8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500"/>
                            </p:stCondLst>
                            <p:childTnLst>
                              <p:par>
                                <p:cTn id="8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4000"/>
                            </p:stCondLst>
                            <p:childTnLst>
                              <p:par>
                                <p:cTn id="9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2.31321E-009 L 0.41267 0.21397 E">
                                      <p:cBhvr>
                                        <p:cTn id="94" dur="5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45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0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500"/>
                            </p:stCondLst>
                            <p:childTnLst>
                              <p:par>
                                <p:cTn id="10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4.81481E-006 L 0.24757 0.2169 E">
                                      <p:cBhvr>
                                        <p:cTn id="108" dur="5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-- Corridor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2565360"/>
            <a:ext cx="2465280" cy="2886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rcRect l="0" t="0" r="0" b="1596"/>
          <a:stretch/>
        </p:blipFill>
        <p:spPr>
          <a:xfrm>
            <a:off x="1619280" y="1212840"/>
            <a:ext cx="6557760" cy="48085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2484360" y="1676520"/>
            <a:ext cx="5896080" cy="38494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4788000" y="5877000"/>
            <a:ext cx="32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ypical Corridor s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5" name="camera.wav"/>
      </p:stSnd>
    </p:sndAc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4.87393E-006 L 0.36528 -0.00047 E">
                                      <p:cBhvr>
                                        <p:cTn id="121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6528 -0.00047 L 0.00295 -0.00047 E">
                                      <p:cBhvr>
                                        <p:cTn id="130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– Staff sec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858960" y="1676520"/>
            <a:ext cx="7424640" cy="44226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– Staff 1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84360" y="2276640"/>
            <a:ext cx="8154720" cy="30859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755640" y="3789360"/>
            <a:ext cx="4194360" cy="17017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755640" y="2060640"/>
            <a:ext cx="4194360" cy="17319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5" name="camera.wav"/>
      </p:stSnd>
    </p:sndAc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voltage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56" dur="500" fill="hold"/>
                                        <p:tgtEl>
                                          <p:spTgt spid="15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5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58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4.31182E-006 L 0.4243 -0.02105 E">
                                      <p:cBhvr>
                                        <p:cTn id="167" dur="5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8.21189E-007 L 0.43212 0.03331 E">
                                      <p:cBhvr>
                                        <p:cTn id="169" dur="5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– Staff 2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8447040" cy="31971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826920" y="2133720"/>
            <a:ext cx="4194360" cy="17319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826920" y="3860640"/>
            <a:ext cx="4194360" cy="170208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5" name="camera.wav"/>
      </p:stSnd>
    </p:sndAc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voltage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80" dur="500" fill="hold"/>
                                        <p:tgtEl>
                                          <p:spTgt spid="155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8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82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4.92945E-006 L 0.44792 -0.02129 E">
                                      <p:cBhvr>
                                        <p:cTn id="191" dur="5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2.59079E-007 L 0.44011 0.03354 E">
                                      <p:cBhvr>
                                        <p:cTn id="193" dur="5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-- Storag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835280" y="1914480"/>
            <a:ext cx="4743360" cy="49435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2627280" y="0"/>
            <a:ext cx="3371760" cy="554364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4" name="camera.wav"/>
      </p:stSnd>
    </p:sndAc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path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1.38889E-006 3.80985E-006 L 0.00469 0.15868 E">
                                      <p:cBhvr>
                                        <p:cTn id="213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-- VIP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906480" y="1676520"/>
            <a:ext cx="7331040" cy="44226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1T04:57:53Z</dcterms:created>
  <dc:creator>Curufea Cubelegand</dc:creator>
  <dc:description/>
  <dc:language>en-US</dc:language>
  <cp:lastModifiedBy>Curufea Cubelegand</cp:lastModifiedBy>
  <dcterms:modified xsi:type="dcterms:W3CDTF">2003-11-01T21:03:11Z</dcterms:modified>
  <cp:revision>25</cp:revision>
  <dc:subject/>
  <dc:title>Newton’s First Law</dc:title>
</cp:coreProperties>
</file>