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18.jpeg" ContentType="image/jpeg"/>
  <Override PartName="/ppt/media/image7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hammer.wav" ContentType="audio/x-wav"/>
  <Override PartName="/ppt/media/image13.png" ContentType="image/pn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DBE5-4E78-459F-A6F0-E300F5524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E084-55BC-400E-AC00-9A4774504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4FA3-F29D-4E2E-99B6-AB5F54281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4F39-3904-45BC-9373-79D59DE72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3A1B2-09A6-4A74-86CD-8C0070277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4839B-DAAF-4DF5-992C-08EABB562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21871-B29F-4C73-B089-A0BD61F10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9AC6E-E34D-425C-B2A5-C5E69BBC8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CA280-CF94-43D8-BCFB-EF7BF9449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38279-C66C-4505-98C1-E62C9CA26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99FF4-30C6-4B11-8CD9-E72A2888F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AB03-B966-4631-B861-F5B851BB9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8D053-4E9D-4DBE-AA00-E7F9532D5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A90DD-F833-4D1E-9E5C-A422D1B0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3B0F6-B68B-4A19-8FD5-6BACDCF0B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DA28B-7D99-4C59-9509-2D8011038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D15D1-01D9-461A-A1BF-A957DF263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2FDB-C1EC-459D-9896-DC46B57E1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04D3-9702-4454-86B0-B1C0F2A1D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0ED5-2D8A-4E55-9BC9-7C8DBFE16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A48C-D026-43D2-A966-935A37478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CA36-730F-4740-BC57-794763959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DB6D-0951-4908-85A5-D675C72A5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7140-3496-43D5-BD06-3D0018F10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EE537-1921-4B42-AD58-624FA6E579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90A6C-0C21-4FCF-92D9-B9819E64BA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audio" Target="../media/hammer.wav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audio" Target="../media/hammer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14.xml"/><Relationship Id="rId3" Type="http://schemas.openxmlformats.org/officeDocument/2006/relationships/slide" Target="slide13.xml"/><Relationship Id="rId4" Type="http://schemas.openxmlformats.org/officeDocument/2006/relationships/slide" Target="slide12.xml"/><Relationship Id="rId5" Type="http://schemas.openxmlformats.org/officeDocument/2006/relationships/slide" Target="slide11.xml"/><Relationship Id="rId6" Type="http://schemas.openxmlformats.org/officeDocument/2006/relationships/slide" Target="slide10.xml"/><Relationship Id="rId7" Type="http://schemas.openxmlformats.org/officeDocument/2006/relationships/slide" Target="slide9.xml"/><Relationship Id="rId8" Type="http://schemas.openxmlformats.org/officeDocument/2006/relationships/slide" Target="slide8.xml"/><Relationship Id="rId9" Type="http://schemas.openxmlformats.org/officeDocument/2006/relationships/slide" Target="slide7.xml"/><Relationship Id="rId10" Type="http://schemas.openxmlformats.org/officeDocument/2006/relationships/slide" Target="slide6.xml"/><Relationship Id="rId11" Type="http://schemas.openxmlformats.org/officeDocument/2006/relationships/slide" Target="slide5.xml"/><Relationship Id="rId12" Type="http://schemas.openxmlformats.org/officeDocument/2006/relationships/audio" Target="../media/hammer.wav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4.xml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4.xml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4.xml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Newton’s First Law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24000" y="3886200"/>
            <a:ext cx="849600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object at rest will stay at rest, and an object in motion wil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y in motion in a constant speed and direction, unles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ed upon by an outside for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867280" y="6237360"/>
            <a:ext cx="32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Lady Ja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hammer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b7e7ff"/>
                </a:solidFill>
                <a:latin typeface="Arial"/>
              </a:rPr>
              <a:t>Deck 5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806480" y="1676520"/>
            <a:ext cx="5529240" cy="44226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80320" y="1844640"/>
            <a:ext cx="6069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hammer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b7e7ff"/>
                </a:solidFill>
                <a:latin typeface="Arial"/>
              </a:rPr>
              <a:t>Deck 6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806480" y="1676520"/>
            <a:ext cx="5529240" cy="44226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80320" y="1844640"/>
            <a:ext cx="6069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hammer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b7e7ff"/>
                </a:solidFill>
                <a:latin typeface="Arial"/>
              </a:rPr>
              <a:t>Deck 7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806480" y="1676520"/>
            <a:ext cx="5529240" cy="44226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80320" y="1844640"/>
            <a:ext cx="6069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hammer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b7e7ff"/>
                </a:solidFill>
                <a:latin typeface="Arial"/>
              </a:rPr>
              <a:t>Deck 8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806480" y="1676520"/>
            <a:ext cx="5529240" cy="44226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580320" y="1844640"/>
            <a:ext cx="6069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hammer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b7e7ff"/>
                </a:solidFill>
                <a:latin typeface="Arial"/>
              </a:rPr>
              <a:t>Deck 9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806480" y="1676520"/>
            <a:ext cx="5529240" cy="44226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80320" y="1844640"/>
            <a:ext cx="6069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hammer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b7e7ff"/>
                </a:solidFill>
                <a:latin typeface="Arial"/>
              </a:rPr>
              <a:t>Ship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806480" y="1676520"/>
            <a:ext cx="5529240" cy="44226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80320" y="1844640"/>
            <a:ext cx="6069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hammer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3684600" cy="18748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40360" y="189000"/>
            <a:ext cx="4732200" cy="37036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324000" y="4149720"/>
            <a:ext cx="5041800" cy="18939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4" name="hammer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901800" y="228600"/>
            <a:ext cx="7338960" cy="58705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284720" y="4076640"/>
            <a:ext cx="3956040" cy="1314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4500720" y="836640"/>
            <a:ext cx="3541680" cy="2324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4" name="hammer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901800" y="228600"/>
            <a:ext cx="7338960" cy="58705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95280" y="1341360"/>
            <a:ext cx="1008000" cy="40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ffcc00"/>
                </a:solidFill>
                <a:uFillTx/>
                <a:latin typeface="Arial"/>
                <a:hlinkClick r:id="rId3" action="ppaction://hlinksldjump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ffcc00"/>
                </a:solidFill>
                <a:uFillTx/>
                <a:latin typeface="Arial"/>
                <a:hlinkClick r:id="rId4" action="ppaction://hlinksldjump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ffcc00"/>
                </a:solidFill>
                <a:uFillTx/>
                <a:latin typeface="Arial"/>
                <a:hlinkClick r:id="rId5" action="ppaction://hlinksldjump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ffcc00"/>
                </a:solidFill>
                <a:uFillTx/>
                <a:latin typeface="Arial"/>
                <a:hlinkClick r:id="rId6" action="ppaction://hlinksldjump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ffcc00"/>
                </a:solidFill>
                <a:uFillTx/>
                <a:latin typeface="Arial"/>
                <a:hlinkClick r:id="rId7" action="ppaction://hlinksldjump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ffcc00"/>
                </a:solidFill>
                <a:uFillTx/>
                <a:latin typeface="Arial"/>
                <a:hlinkClick r:id="rId8" action="ppaction://hlinksldjump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ffcc00"/>
                </a:solidFill>
                <a:uFillTx/>
                <a:latin typeface="Arial"/>
                <a:hlinkClick r:id="rId9" action="ppaction://hlinksldjump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ffcc00"/>
                </a:solidFill>
                <a:uFillTx/>
                <a:latin typeface="Arial"/>
                <a:hlinkClick r:id="rId10" action="ppaction://hlinksldjump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ffcc00"/>
                </a:solidFill>
                <a:uFillTx/>
                <a:latin typeface="Arial"/>
                <a:hlinkClick r:id="rId11" action="ppaction://hlinksldjump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12" name="hammer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b7e7ff"/>
                </a:solidFill>
                <a:latin typeface="Arial"/>
              </a:rPr>
              <a:t>Deck 0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806480" y="1676520"/>
            <a:ext cx="5529240" cy="44226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80320" y="1844640"/>
            <a:ext cx="6069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49400" y="3382920"/>
            <a:ext cx="4284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3" name="hammer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b7e7ff"/>
                </a:solidFill>
                <a:latin typeface="Arial"/>
              </a:rPr>
              <a:t>Deck 1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806480" y="1676520"/>
            <a:ext cx="5529240" cy="44226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80320" y="1844640"/>
            <a:ext cx="6069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3" name="hammer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b7e7ff"/>
                </a:solidFill>
                <a:latin typeface="Arial"/>
              </a:rPr>
              <a:t>Deck 2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806480" y="1676520"/>
            <a:ext cx="5529240" cy="44226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80320" y="1844640"/>
            <a:ext cx="6069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3" name="hammer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b7e7ff"/>
                </a:solidFill>
                <a:latin typeface="Arial"/>
              </a:rPr>
              <a:t>Deck 3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806480" y="1676520"/>
            <a:ext cx="5529240" cy="4422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80320" y="1844640"/>
            <a:ext cx="6069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hammer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b7e7ff"/>
                </a:solidFill>
                <a:latin typeface="Arial"/>
              </a:rPr>
              <a:t>Deck 4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806480" y="1676520"/>
            <a:ext cx="5529240" cy="44226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80320" y="1844640"/>
            <a:ext cx="6069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hammer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1T04:57:53Z</dcterms:created>
  <dc:creator>Curufea Cubelegand</dc:creator>
  <dc:description/>
  <dc:language>en-US</dc:language>
  <cp:lastModifiedBy>Curufea Cubelegand</cp:lastModifiedBy>
  <dcterms:modified xsi:type="dcterms:W3CDTF">2003-11-02T01:03:55Z</dcterms:modified>
  <cp:revision>39</cp:revision>
  <dc:subject/>
  <dc:title>Newton’s First Law</dc:title>
</cp:coreProperties>
</file>